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22.wmf" ContentType="image/x-wmf"/>
  <Override PartName="/ppt/media/image21.wmf" ContentType="image/x-wmf"/>
  <Override PartName="/ppt/media/image1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.jpeg" ContentType="image/jpeg"/>
  <Override PartName="/ppt/media/image20.wmf" ContentType="image/x-wmf"/>
  <Override PartName="/ppt/media/image5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</p:sldMasterIdLst>
  <p:notesMasterIdLst>
    <p:notesMasterId r:id="rId35"/>
  </p:notes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notesMaster" Target="notesMasters/notesMaster1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 type="dt" idx="83"/>
          </p:nvPr>
        </p:nvSpPr>
        <p:spPr>
          <a:xfrm>
            <a:off x="397188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 type="ftr" idx="84"/>
          </p:nvPr>
        </p:nvSpPr>
        <p:spPr>
          <a:xfrm>
            <a:off x="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PlaceHolder 6"/>
          <p:cNvSpPr>
            <a:spLocks noGrp="1"/>
          </p:cNvSpPr>
          <p:nvPr>
            <p:ph type="sldNum" idx="85"/>
          </p:nvPr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4AA72-7622-47FB-9596-B922DAD5CAE0}" type="slidenum">
              <a:rPr b="0" lang="en-ZA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08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DDB34-4E87-4ABB-8183-ED2FAABCF9FA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5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6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79611-5F75-4B4F-9D10-6A760A91762F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9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92017-6B31-45D2-B75F-121A80F13F53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1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0B927-8F70-4E99-AE79-7CD59C4A2EEB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4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031F2-47BC-45B1-B4C2-CABE211EA10D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17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03B2-70AB-4379-BFB8-AE9E6020B2B2}" type="slidenum">
              <a:rPr b="0" lang="en-ZA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0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6480F-C075-47EA-85A3-5872BF9690A1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sldImg"/>
          </p:nvPr>
        </p:nvSpPr>
        <p:spPr>
          <a:xfrm>
            <a:off x="118116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823" name="PlaceHolder 2"/>
          <p:cNvSpPr>
            <a:spLocks noGrp="1"/>
          </p:cNvSpPr>
          <p:nvPr>
            <p:ph type="body"/>
          </p:nvPr>
        </p:nvSpPr>
        <p:spPr>
          <a:xfrm>
            <a:off x="700200" y="4416120"/>
            <a:ext cx="561024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4" name="Slide Number Placeholder 3"/>
          <p:cNvSpPr/>
          <p:nvPr/>
        </p:nvSpPr>
        <p:spPr>
          <a:xfrm>
            <a:off x="3971880" y="8829720"/>
            <a:ext cx="303696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79E0-92B9-4716-86C2-E33ABF792931}" type="slidenum">
              <a:rPr b="0" lang="en-ZA" sz="1300" spc="-1" strike="noStrike">
                <a:solidFill>
                  <a:srgbClr val="003896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9C66FF-69D6-4365-9C7D-D3D35C10827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196F1-CE08-4FBD-A1CD-DF126403F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1F713E5-257B-4635-9F0A-0ACA3790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F42672-1B77-41A7-9F87-15579CCA4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B7C8A1-0EF4-482B-B6B3-B5900C1F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32BB9C-92E0-4DF0-AAFD-8565181AC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3CC34CB-D3EC-4D09-9F24-3FBCADC32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45FC286F-15B4-47D2-98C4-F8C3E463C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4D643E9-44D9-4BD4-8CAE-9C657EBD1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0B4F646-DFCB-49AE-94E8-45D448774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45ED357-0633-4AF6-98CE-ECF53655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83FADD-1EA9-4B63-8FC7-7F96E140F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FD63C-FF45-4245-95EC-FE934A9B4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6FD79A-728C-48B3-A448-3A57004C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36FDEC4-E17E-44AF-BBDC-713BE87C8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7DBBC74-4EED-4CC2-9502-9F26F2AC6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4FB8A70-0F54-4A54-9A00-412E8090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D89062D-CD06-4E19-934C-9EC3D8C9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D852C18-D5B9-4D6E-9FEC-4C206E194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ACDCE22-FB92-4DE0-83A2-7BD3BB9E0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65E3F98-A2D2-40C2-8E84-415A85016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A778F7B-4B44-45F6-953E-68AF04209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BFD1B5A-D039-4305-8D12-58C4B17A3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CD608-0A93-4A78-BE9D-6B3752CAB3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65AC1D5-872B-4376-9A87-CE59666D9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2A5D94-DAA1-4706-A5F0-413EDA1D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D116D3-8485-4DF8-A539-8DB68BF76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FCB0F56-31A1-4275-9DDA-2CC2703F5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1342D9F-33BD-48E3-8ED2-39616D33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781544C-7C78-426A-81C1-9A4EDA6FD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001D08-E4D0-41DA-9EF5-9D89CAF02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6261C6D-A230-4F7A-B60B-20FE4464D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2730F74-CE07-4A1A-9C4F-AF5FC51D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37C29CF-6A60-4B46-BF57-4621DA41D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02672F6-CA67-435B-8B5E-3EAF8D45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FB2C766-7F91-4EE3-B8DF-A0EBF2E9D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446130-888C-402B-A82F-74661D8BE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D4FE65D-4C70-4227-BCDC-A97B83262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8F52DEA-5636-4D41-BA64-11B8C3BD9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F375AC1-1797-411C-A904-E968FDAA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ABCDD37-7978-404D-BE50-8D4139DB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3471E41-FBE9-431A-9FA2-80EE4C960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130DB65-2312-4BD6-AC53-E97FFDEE4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855C76A-3E36-4226-B484-EC6E43C8E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0F331DC-2619-4771-B555-69FF4178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3DF9472-AD46-4FCA-95F3-15BDCCFF6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2B32142-A300-4960-B3F3-58D5624E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7391C0-300A-448D-827D-E8AE80807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96202C8-65B7-41C9-B598-84FF083B3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8BC57EE1-FD5C-476F-80C4-428D5C65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FA79674-C70E-4877-B9DA-EC6D26FFB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0DDF431-953E-47F7-93AA-3C5C50011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85B667-EF18-4A68-95F8-91356194E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0A3F808F-A31E-4792-AE85-2FC7DE8DA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C9874CA-7F5C-4C7C-A259-0A8B633FC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C80B4C5-73B9-4660-8449-D8C84BE1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95D991F5-BF4E-49D7-B873-E00354E09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E520E846-7D5D-4463-A202-B19353D4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B981FCC-A9C7-43E5-B1F7-236C6074A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CA3EA79-4D0C-4809-A2BF-A4C3DFA68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B48C61-AB90-459D-A2A1-BD83210A8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31854-6D39-48F7-B5B7-DD6EC613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20BB6B-1C14-4F83-BD13-39B6821C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F3C040-C332-4D38-94B9-CC0EDBD4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54D6E97-AEFE-491E-A868-569915CC6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938A88-FCF7-4E47-9335-CD469282A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3AC352C-F558-4461-A134-824A739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58807C4-B750-494E-98CC-038DE9E22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E457E28-26C4-46F8-92BF-E1500FF8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24C6C2F-419C-41CE-90E9-8E63C882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89505-2BEB-4168-B82F-FF7CF1FDB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0A225D4-C6A7-4202-8FC6-DAAB2FCB1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A7E96F-DEA0-41B9-BF5F-3ADE3687F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746AEBD-5DAB-4024-BC10-1DE3BC93E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2383B8-37CB-4D81-B680-2A6268611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FCEE134D-6B4E-4A28-B560-93A8659F6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52BF4A1-9E1A-4C88-82B8-5D9F1065A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95487801-896C-4B8A-835E-FACA0EE42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56704F-F49C-4E07-81EA-503AF4C28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AF51847-D31A-4788-88BA-437A2CA6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5013B04-4253-472F-812D-77026E70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F2895D1-B1AE-477D-94E4-73561210E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3AB544C-41F0-410D-ABB3-A8A210F97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B432130D-BB6F-486D-8647-9B172406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EDE8BBE-55D4-4955-8FCE-036FA6649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3308BBE-DABC-4781-9F4D-D493AA790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7D89929F-10AB-4515-B2E7-0697EE7FB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4050D10-48B4-4E05-83E4-EFDF2E89B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C248835-051A-4E1E-9CED-64C2A903B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43A78DE-EED9-41D4-9008-3F0A1BD90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611E88E-B9FF-47FF-8ABB-BB381EC23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436B4ADC-2878-4B83-B24A-36C97A916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22DFA0-91A6-46B2-B6D1-0ABDA7F32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A18ABA64-2E70-46A0-A037-6DF5F5E16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629625B-A19C-4C36-A573-EBE832BC1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356BD880-4DD7-474B-82B6-89C04A37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BA59F10-D415-4AA1-A457-E33220F00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917DB66-524C-4595-8D23-98E41B567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90152AF-C471-46C2-BA58-70D99E5CE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E775B8F-51A1-4712-AC63-55310205A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247D6E6-D1E9-4293-9F65-9D3DA4C61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F6CDCD8-730A-4109-95FD-D38F5BA3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C2BD542-C69D-4381-8013-CEF485E86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AEDBB87-CA21-43FA-A5F1-7701AB4E0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F531D0-E368-4C87-90B5-F7D60A390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64D3DD8-35BB-4836-867A-A6B743408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7EDB5511-7562-41F4-A866-698F980E3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260C47A-76E2-479E-B81A-04937563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3E961F38-D384-4B4A-AD1C-9735189F5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95E02BBC-E05D-4720-B3D0-378F0A8E9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3DF08D4D-AA67-486F-AC3C-BB358FB1B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343F804-418A-4281-A239-3B38CDD53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7F84BD1-352D-4930-9447-33CCD21D0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266B0A9-AB63-40FF-8ED8-0171129C3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5A92896-A5E4-4D21-80A6-E586B42A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A525E964-268C-4679-8969-C7131F1A1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07B1578-E0E8-4F80-99AC-B8B4F94C2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E6B1B266-EDD6-4CAA-BCA3-2AE79B48B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5A1C91-B585-414C-B3DD-73727C0C9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723A57D-AC7B-4F0B-AD39-39F67F4E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64E9DDC-FD3F-4E39-B547-7CD767F52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94678AC-5CF8-4EC9-9464-5CB8C9B7B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9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30570D3-0334-41F5-B136-3E506B1B3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24DEFFD-675D-4765-B80E-BC2A225A5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61A2E8F-9AAB-47F0-B510-2A1FCCAB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2F4FA9-9F5E-42FF-BCBA-EF1928089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8D8A9A9-E7BE-4638-B581-039994DC1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5A734FD-8364-42AC-B271-CCA4D61C0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A76F85E-2F78-4BF6-B9CB-16EC7EEE4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0E53890-FB71-45DF-A53F-1362C63EF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8A1ED032-EBC6-43DE-AA19-09C706E68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D20A25-2876-4FDD-BEA9-2D39FECE3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158664E-D2C0-49FF-A1C0-6CA85B4F6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66479A5-56B8-4DE2-8914-26E31D67E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01484E7-12DD-4684-B2A1-512F1FDB8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D86F45-B417-4007-B707-B8833F8DD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75703E4-F43D-4C47-AE49-DAC7FA38D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6D6CDCE-B621-449F-9930-B6DC2C81D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3151E9-2A70-410B-9261-56644E8E1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1056A7A-6923-4447-A10A-ED66F4F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E7D048D-E0E4-40D7-816D-A0CEBC312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B8ABC-D987-4F2A-A25B-CBF00D9AB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40880FC-BAF0-484D-9DFD-776735A80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1300F42-9D44-4D63-B689-3C52AFFAA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CCC942BB-3C9C-4A6A-9C3F-1E81CC5F1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73F0B8C-3268-41BB-9713-845810EB0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EA7C9FC-83E0-4392-9A55-504F6BBA2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37A5EB8-6EB2-4069-A41C-566B406E4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672F55BF-966E-4E67-BCAD-16135CDC9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4BD4EDC-1318-4ACE-A26C-F049CBB09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31F1C6-9BC8-4899-A46F-CD76F8B23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B7471AA-5251-49B4-886B-6378491F7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B9E901-0801-48CF-AEB3-6D6E864A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E2BCFC-2A68-44B3-8460-F0B3F9D6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0246E5C-4C26-48A5-8AA3-CF465E585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331C4A20-BFF4-4555-9BC7-90A562F0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E4BAFB8B-455E-4241-B701-C3AAE9DFA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CBD28F43-D666-4251-A7E9-7253D5C21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8C940E6C-E956-436A-9F5C-4F7284C3A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18251E3-2163-4AAF-935D-D732759EE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FDD29A95-DBD5-4D10-8ED5-3A1B6834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8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B465193-FA41-43FB-9821-1E992BE3E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9B3FFEB-39F7-4277-8846-EC2040BD0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153CF5-CDD0-4383-8719-72DCFAED4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A8A3818-6EA0-4B6B-BC27-580267646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CFBFD11-F570-4541-AF96-3BA597783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608432E-B5D4-40DE-B144-A8747ECBB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F3B63B9-4B3F-4F3B-A3A8-532491C0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881910AB-9B86-40FE-8485-C3297C4B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BCD8254-4C58-4770-BAE6-718DE5198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D3DBDB71-4CB1-4FD6-8740-707413B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3F1F556-040D-4CE7-94C6-512160DD8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36D69F2-DC14-41D2-9790-B96B4BA8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9372B418-A95B-42B5-955B-965ABB6F3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278519-BBE0-4902-80AF-10FDA093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734E8F-9354-4C5F-993F-3B2342EFE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64A7D98B-D338-4E4F-B52D-61C8D076D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1BF5ACB-9DF5-4FCF-8A77-DE82FF934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2A6DED3-A9FA-4DCE-B312-6629E8EC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3FFAAA5-6801-4B27-A148-D3BD7FD60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32FB181-A3D6-4667-9B80-12790357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43F9A28-733E-4CAC-AAF4-0E91B0CE2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89673DE-D606-4DD8-A1E1-C55ED0DF0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CD14CD6-C2E9-4650-9AC7-1845DE4D8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E2D24C54-8A99-4EB2-A256-16ED6D30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B84CBC0-F824-48D0-91AA-EDEC41499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D6243E-B769-4DBA-B17D-7656F82C4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F2F9F6C3-3808-4ADA-8B9C-E201A53D6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43E3195-E083-4324-87BB-4B5A85EC2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7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869D6EF-EFCE-4306-B521-720DBF827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6EF08F9-C65C-4EA2-8E32-6CFF444ED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5233A5E3-2B39-4A97-97C9-165C634A9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7FA9CF3-FF7F-4D1C-9CE1-42DE500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9402C72-9C67-4C59-A4E0-F1214E441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49722F2-39ED-4E20-B7E5-10240C6C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13F52419-B4D2-4E78-8EA2-AFACB7279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E646CAF5-3D6B-421D-B8F5-DE5652B34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77DAE2-FF08-4060-899A-D3A9A50E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3305B9E-020A-41C7-9AD4-3018329C4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77B387C-AD2B-415B-A7AF-B8D3E70F0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0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56D15AC-FF66-4A03-8833-5314BFBF3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98695E82-6786-4B4F-8D00-E7FA6A4C1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1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241929C-CC17-40CE-BECF-3A4A3E2A6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6D985F-3FFF-414B-8F81-ED222557C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D106184-3470-46D2-A8C9-2BD169128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1C22EFFF-9B58-4929-A749-40DF73BAE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B9ECABE-BD55-4AF2-BA00-61CF52C3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C2E06BC-599A-49FF-A503-51CFA03F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F9B6D4-B1FE-456F-A486-AE37FD58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9B5F299-C71D-40B6-96F5-A3947773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BE0BE91-B1C8-4A16-8840-F6A35468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BF6F222-D070-4286-B89E-C6F9FB9E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E9888AD-6AB2-4207-81B1-B2F30ADAA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6BB9E3-AC24-4EC8-BA66-CDEAAE2A2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2F17931-E21F-4062-ABBF-A0FA511DE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6ADDA90B-47BB-46A1-A09B-DFB4EC70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50CEAEF-9479-421E-BE4B-33BC11199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82DA961-5AE1-4273-AE50-34B21883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00FF5BB8-747A-4CFD-B42B-F70918BB0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59A2D4-540F-40E3-A29B-8F88812B3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85A7DEB-2D84-468C-B683-66C954217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461D3CC-D12C-4278-84A8-5CCCF2D0E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964AC2B-4986-488E-A2F2-75F14191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B16ADFC-5E77-4145-A24F-186FA58E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C229FF7-2F7E-46DB-8245-D7DF779C1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DE1BDA8-3A8F-4AF8-AF7E-5438164E5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17B6729-90F8-45BA-8A4C-1C3C4299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AE5A1511-032B-415A-9B89-1C7307599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753A5A1-F7B3-4D94-8F8F-B2DF3FB02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4EF5DCC-C003-4039-8AFE-803CB2077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9D67A6-8815-471A-B726-EE4960FB8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BD611D4-36FA-46B3-8972-1F2DF2CC9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30C7D75-760D-42A3-84E1-923CC8B69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3BEE299A-DEB0-4003-80DC-57727AD25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B8236B1D-A163-466F-97AB-F80CDE761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DF38DE97-CE69-4040-909F-49A563AA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AC84806-A70E-49D2-9ABD-7A4F38FA4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52ED2D7-AE94-40F1-A2FE-44EAE6DF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6890F88F-BBFD-4A55-9B9B-1AD79AD8D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DE3FCF9-28E2-415A-A707-551DB7AE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EA19C819-9689-40CE-9BAB-80BC6C232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01373E-502F-4938-94E4-818776BF2F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52E5E4C6-4D65-4949-BAAB-B1E60E3206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4588DE3-B29A-4A95-BF7B-8B26CA5276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275C5E6-1B44-4587-B865-8EE479E1A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213D8C3-0B02-4EF8-957C-7EDFDF07E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7961A10-8E31-4C98-A2F8-1F57556A5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C12805-1F62-4526-84E2-8A3F9EC0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6E120185-8765-44BD-8FA7-AF217265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79FE63A-4FFE-4984-8316-D2B0A0B55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7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EB3AC2AE-B184-42ED-9D7D-BA56BB152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A2D63098-43E5-4834-9F1E-237B2D8DE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A5B04D6-5FC9-4FA3-BC24-E50589BEA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2406A70-4F95-4124-ABAC-746FA5D8D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67DF1A4-135B-47D2-B479-CD5A516D28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762B327F-1F70-49B2-999E-9D1FFEABB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A620553-97ED-427E-99E9-568963752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803C9BD-6EB4-43EB-84BB-35495A4E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42CF0F22-5E66-48C1-A218-C717C566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90EFFB5-60B1-4392-86FE-CF20F091A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48EC13C-9DD7-47BB-829F-2B4789F6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27741CA-A63B-4BA6-A9AA-8BF0DC765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285E62F-8965-4C22-9A82-96932B7C3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39A68CF-AD25-4CD6-A02A-A9F2A9656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0A6009F-24C0-4CAC-8198-534D86C5A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08740EFA-922C-4A90-937F-79DDE0382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5302815-CECC-46AE-A050-4F2B01C10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D390F31-81E3-4193-BAAA-4A46B1CF5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B0E3F7E1-A5C5-49B9-83EE-F017BF13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DA11CFE-74AC-4607-B729-11ED295D7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2FBA0A8A-0E34-4328-8398-07E60D1AF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67B4AE51-0CD9-4542-AB56-427A0E60D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5A93DF0-535F-461C-BA25-FF3C2C170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A6489D39-8EC4-400A-8613-365D4ADD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C66EC1-B3C1-49C3-97FD-52306BFA3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B3197FC-D1E6-497A-AEAD-2FEDB071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38AB3E6-6618-45E3-9B67-B7ECD8649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F6C9782-9020-45E8-88D3-F9759CCDA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9CF55624-C11A-40D1-A385-B76CF990A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A99E960-CF46-4911-A44B-B4223E5CC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547B08D1-1BBC-4F03-8E59-B8B5989D3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8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150762F-3B9B-4A48-A874-F3274D48D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ED9F5-473A-4386-B3B8-3346886C3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60A22F-6AA3-4A6F-8C8A-2C5F60C7A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1892E52-E956-429A-97CD-519225AD7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86CD91-66ED-4DA8-90AF-3996FF353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D9995B-FD9A-4B60-AB7A-1C92F9F0C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9F7840-8D5B-421D-A3D9-2C52722D0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BBC24E-0F94-4E57-93A3-31917FA58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8340129-EE73-40E8-964A-1FB8F885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F8CDFD-CB67-493F-B629-1EEA42B7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545BB4-D2BE-4AD7-9D90-CA6766F39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EDB3B3-5D2B-4CD1-8879-B6DA79A2216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9E48-BC3E-4E6A-9998-E440BA1ACE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2626C77-9D09-4B8F-9586-0CEC07E3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C6BED1D-48A7-4984-83D6-C457A2A6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70E8B5C-6CC5-45C6-981A-0288457FB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641222-7068-465F-867D-F6AF984F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45CA6F6-35ED-449A-B7E7-29D47CE3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732B36-16F4-43F2-8B36-BFA5E33CF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8216429-BCAA-499D-A055-FB2E25BC0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615F2B-6C6A-407B-AA73-6337DAC7A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2173FCC-AE4F-4BE0-B375-F1AC47CE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592E55B-5FF2-4878-9969-FA8CB5C2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098DAF-267C-439E-9608-85D040164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8CA06E4-C03B-4077-8D12-642CEED32E3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652BF8A-EB72-4E29-AC01-BBD5CA65F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E82A67-F765-40CA-A3EA-3001AA6FD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EC5B68D-E0AC-4D3C-832A-63F68B4EF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46EDB2-4BE0-45DF-92A5-D74AC6567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AF66000-5B4B-4C14-BEEC-315C188DE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7120FB-B893-4250-BF28-C36B31F12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83F23A7-6C42-43AC-A7F8-746F9911C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B318560-A0EE-403C-A3AD-E4A8942E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5D1C73E-6C3D-4E92-BF5F-D8B11D1BD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17D05-EB97-47EA-88A3-D135AF9AB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415E5C-BCFF-4EA6-AD91-33485DBF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D3361CF-6B37-43ED-9704-1F9F3BE34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881A577-7691-4EE6-B509-DFE761B5CE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6F92-F820-4F77-B779-70120DF6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87E0FC-BDB8-427C-AC68-8E8E765C3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B317B0-BF17-42BE-87A4-B5075526A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44EDFF-A9F3-4BEC-9347-0AFDFE066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85EA662-27ED-4C81-B461-3D922028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D6FFD12-832D-4325-A2EB-90EE03F5E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E5B0AC-31EF-411A-BFBD-7363F31FF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F88BF95-8A36-402B-B256-DE42EE0F1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4EAACFD-6295-471A-860C-080FD69EF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4A444C1-B689-472C-A892-5D55038D2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0EB8369-55AA-4891-90AA-1CBBA65C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551EA05-7DDE-4675-A252-E3C230DB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AC67304-4770-4B5A-8F13-863FB70B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25259D-04A9-4FB9-B0F6-DEF6BA1FC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B6DCCCC-5824-4CFD-8F29-245059813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25566D0-0574-4584-A98B-50933762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4925204-1794-430D-A36B-4D4F2BA93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17.xml"/><Relationship Id="rId9" Type="http://schemas.openxmlformats.org/officeDocument/2006/relationships/slideLayout" Target="../slideLayouts/slideLayout218.xml"/><Relationship Id="rId10" Type="http://schemas.openxmlformats.org/officeDocument/2006/relationships/slideLayout" Target="../slideLayouts/slideLayout219.xml"/><Relationship Id="rId11" Type="http://schemas.openxmlformats.org/officeDocument/2006/relationships/slideLayout" Target="../slideLayouts/slideLayout220.xml"/><Relationship Id="rId12" Type="http://schemas.openxmlformats.org/officeDocument/2006/relationships/slideLayout" Target="../slideLayouts/slideLayout221.xml"/><Relationship Id="rId13" Type="http://schemas.openxmlformats.org/officeDocument/2006/relationships/slideLayout" Target="../slideLayouts/slideLayout222.xml"/><Relationship Id="rId14" Type="http://schemas.openxmlformats.org/officeDocument/2006/relationships/slideLayout" Target="../slideLayouts/slideLayout223.xml"/><Relationship Id="rId15" Type="http://schemas.openxmlformats.org/officeDocument/2006/relationships/slideLayout" Target="../slideLayouts/slideLayout224.xml"/><Relationship Id="rId16" Type="http://schemas.openxmlformats.org/officeDocument/2006/relationships/slideLayout" Target="../slideLayouts/slideLayout225.xml"/><Relationship Id="rId17" Type="http://schemas.openxmlformats.org/officeDocument/2006/relationships/slideLayout" Target="../slideLayouts/slideLayout226.xml"/><Relationship Id="rId18" Type="http://schemas.openxmlformats.org/officeDocument/2006/relationships/slideLayout" Target="../slideLayouts/slideLayout227.xml"/><Relationship Id="rId19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4.jpeg"/><Relationship Id="rId9" Type="http://schemas.openxmlformats.org/officeDocument/2006/relationships/image" Target="../media/image5.jpeg"/><Relationship Id="rId10" Type="http://schemas.openxmlformats.org/officeDocument/2006/relationships/image" Target="../media/image6.jpeg"/><Relationship Id="rId11" Type="http://schemas.openxmlformats.org/officeDocument/2006/relationships/image" Target="../media/image7.jpeg"/><Relationship Id="rId12" Type="http://schemas.openxmlformats.org/officeDocument/2006/relationships/image" Target="../media/image8.jpeg"/><Relationship Id="rId13" Type="http://schemas.openxmlformats.org/officeDocument/2006/relationships/image" Target="../media/image9.jpeg"/><Relationship Id="rId14" Type="http://schemas.openxmlformats.org/officeDocument/2006/relationships/slideLayout" Target="../slideLayouts/slideLayout13.xml"/><Relationship Id="rId15" Type="http://schemas.openxmlformats.org/officeDocument/2006/relationships/slideLayout" Target="../slideLayouts/slideLayout14.xml"/><Relationship Id="rId16" Type="http://schemas.openxmlformats.org/officeDocument/2006/relationships/slideLayout" Target="../slideLayouts/slideLayout15.xml"/><Relationship Id="rId17" Type="http://schemas.openxmlformats.org/officeDocument/2006/relationships/slideLayout" Target="../slideLayouts/slideLayout16.xml"/><Relationship Id="rId18" Type="http://schemas.openxmlformats.org/officeDocument/2006/relationships/slideLayout" Target="../slideLayouts/slideLayout17.xml"/><Relationship Id="rId19" Type="http://schemas.openxmlformats.org/officeDocument/2006/relationships/slideLayout" Target="../slideLayouts/slideLayout18.xml"/><Relationship Id="rId20" Type="http://schemas.openxmlformats.org/officeDocument/2006/relationships/slideLayout" Target="../slideLayouts/slideLayout19.xml"/><Relationship Id="rId21" Type="http://schemas.openxmlformats.org/officeDocument/2006/relationships/slideLayout" Target="../slideLayouts/slideLayout20.xml"/><Relationship Id="rId22" Type="http://schemas.openxmlformats.org/officeDocument/2006/relationships/slideLayout" Target="../slideLayouts/slideLayout21.xml"/><Relationship Id="rId23" Type="http://schemas.openxmlformats.org/officeDocument/2006/relationships/slideLayout" Target="../slideLayouts/slideLayout22.xml"/><Relationship Id="rId24" Type="http://schemas.openxmlformats.org/officeDocument/2006/relationships/slideLayout" Target="../slideLayouts/slideLayout23.xml"/><Relationship Id="rId25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1.jpeg"/><Relationship Id="rId3" Type="http://schemas.openxmlformats.org/officeDocument/2006/relationships/image" Target="../media/image5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slideLayout" Target="../slideLayouts/slideLayout229.xml"/><Relationship Id="rId9" Type="http://schemas.openxmlformats.org/officeDocument/2006/relationships/slideLayout" Target="../slideLayouts/slideLayout230.xml"/><Relationship Id="rId10" Type="http://schemas.openxmlformats.org/officeDocument/2006/relationships/slideLayout" Target="../slideLayouts/slideLayout231.xml"/><Relationship Id="rId11" Type="http://schemas.openxmlformats.org/officeDocument/2006/relationships/slideLayout" Target="../slideLayouts/slideLayout232.xml"/><Relationship Id="rId12" Type="http://schemas.openxmlformats.org/officeDocument/2006/relationships/slideLayout" Target="../slideLayouts/slideLayout233.xml"/><Relationship Id="rId13" Type="http://schemas.openxmlformats.org/officeDocument/2006/relationships/slideLayout" Target="../slideLayouts/slideLayout234.xml"/><Relationship Id="rId14" Type="http://schemas.openxmlformats.org/officeDocument/2006/relationships/slideLayout" Target="../slideLayouts/slideLayout235.xml"/><Relationship Id="rId15" Type="http://schemas.openxmlformats.org/officeDocument/2006/relationships/slideLayout" Target="../slideLayouts/slideLayout236.xml"/><Relationship Id="rId16" Type="http://schemas.openxmlformats.org/officeDocument/2006/relationships/slideLayout" Target="../slideLayouts/slideLayout237.xml"/><Relationship Id="rId17" Type="http://schemas.openxmlformats.org/officeDocument/2006/relationships/slideLayout" Target="../slideLayouts/slideLayout238.xml"/><Relationship Id="rId18" Type="http://schemas.openxmlformats.org/officeDocument/2006/relationships/slideLayout" Target="../slideLayouts/slideLayout239.xml"/><Relationship Id="rId19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253.xml"/><Relationship Id="rId9" Type="http://schemas.openxmlformats.org/officeDocument/2006/relationships/slideLayout" Target="../slideLayouts/slideLayout254.xml"/><Relationship Id="rId10" Type="http://schemas.openxmlformats.org/officeDocument/2006/relationships/slideLayout" Target="../slideLayouts/slideLayout255.xml"/><Relationship Id="rId11" Type="http://schemas.openxmlformats.org/officeDocument/2006/relationships/slideLayout" Target="../slideLayouts/slideLayout256.xml"/><Relationship Id="rId12" Type="http://schemas.openxmlformats.org/officeDocument/2006/relationships/slideLayout" Target="../slideLayouts/slideLayout257.xml"/><Relationship Id="rId13" Type="http://schemas.openxmlformats.org/officeDocument/2006/relationships/slideLayout" Target="../slideLayouts/slideLayout258.xml"/><Relationship Id="rId14" Type="http://schemas.openxmlformats.org/officeDocument/2006/relationships/slideLayout" Target="../slideLayouts/slideLayout259.xml"/><Relationship Id="rId15" Type="http://schemas.openxmlformats.org/officeDocument/2006/relationships/slideLayout" Target="../slideLayouts/slideLayout260.xml"/><Relationship Id="rId16" Type="http://schemas.openxmlformats.org/officeDocument/2006/relationships/slideLayout" Target="../slideLayouts/slideLayout261.xml"/><Relationship Id="rId17" Type="http://schemas.openxmlformats.org/officeDocument/2006/relationships/slideLayout" Target="../slideLayouts/slideLayout262.xml"/><Relationship Id="rId18" Type="http://schemas.openxmlformats.org/officeDocument/2006/relationships/slideLayout" Target="../slideLayouts/slideLayout263.xml"/><Relationship Id="rId19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13.xml"/><Relationship Id="rId6" Type="http://schemas.openxmlformats.org/officeDocument/2006/relationships/slideLayout" Target="../slideLayouts/slideLayout314.xml"/><Relationship Id="rId7" Type="http://schemas.openxmlformats.org/officeDocument/2006/relationships/slideLayout" Target="../slideLayouts/slideLayout315.xml"/><Relationship Id="rId8" Type="http://schemas.openxmlformats.org/officeDocument/2006/relationships/slideLayout" Target="../slideLayouts/slideLayout316.xml"/><Relationship Id="rId9" Type="http://schemas.openxmlformats.org/officeDocument/2006/relationships/slideLayout" Target="../slideLayouts/slideLayout317.xml"/><Relationship Id="rId10" Type="http://schemas.openxmlformats.org/officeDocument/2006/relationships/slideLayout" Target="../slideLayouts/slideLayout318.xml"/><Relationship Id="rId11" Type="http://schemas.openxmlformats.org/officeDocument/2006/relationships/slideLayout" Target="../slideLayouts/slideLayout319.xml"/><Relationship Id="rId12" Type="http://schemas.openxmlformats.org/officeDocument/2006/relationships/slideLayout" Target="../slideLayouts/slideLayout320.xml"/><Relationship Id="rId13" Type="http://schemas.openxmlformats.org/officeDocument/2006/relationships/slideLayout" Target="../slideLayouts/slideLayout321.xml"/><Relationship Id="rId14" Type="http://schemas.openxmlformats.org/officeDocument/2006/relationships/slideLayout" Target="../slideLayouts/slideLayout322.xml"/><Relationship Id="rId15" Type="http://schemas.openxmlformats.org/officeDocument/2006/relationships/slideLayout" Target="../slideLayouts/slideLayout323.xml"/><Relationship Id="rId16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25.xml"/><Relationship Id="rId6" Type="http://schemas.openxmlformats.org/officeDocument/2006/relationships/slideLayout" Target="../slideLayouts/slideLayout326.xml"/><Relationship Id="rId7" Type="http://schemas.openxmlformats.org/officeDocument/2006/relationships/slideLayout" Target="../slideLayouts/slideLayout327.xml"/><Relationship Id="rId8" Type="http://schemas.openxmlformats.org/officeDocument/2006/relationships/slideLayout" Target="../slideLayouts/slideLayout328.xml"/><Relationship Id="rId9" Type="http://schemas.openxmlformats.org/officeDocument/2006/relationships/slideLayout" Target="../slideLayouts/slideLayout329.xml"/><Relationship Id="rId10" Type="http://schemas.openxmlformats.org/officeDocument/2006/relationships/slideLayout" Target="../slideLayouts/slideLayout330.xml"/><Relationship Id="rId11" Type="http://schemas.openxmlformats.org/officeDocument/2006/relationships/slideLayout" Target="../slideLayouts/slideLayout331.xml"/><Relationship Id="rId12" Type="http://schemas.openxmlformats.org/officeDocument/2006/relationships/slideLayout" Target="../slideLayouts/slideLayout332.xml"/><Relationship Id="rId13" Type="http://schemas.openxmlformats.org/officeDocument/2006/relationships/slideLayout" Target="../slideLayouts/slideLayout333.xml"/><Relationship Id="rId14" Type="http://schemas.openxmlformats.org/officeDocument/2006/relationships/slideLayout" Target="../slideLayouts/slideLayout334.xml"/><Relationship Id="rId15" Type="http://schemas.openxmlformats.org/officeDocument/2006/relationships/slideLayout" Target="../slideLayouts/slideLayout335.xml"/><Relationship Id="rId16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37.xml"/><Relationship Id="rId6" Type="http://schemas.openxmlformats.org/officeDocument/2006/relationships/slideLayout" Target="../slideLayouts/slideLayout338.xml"/><Relationship Id="rId7" Type="http://schemas.openxmlformats.org/officeDocument/2006/relationships/slideLayout" Target="../slideLayouts/slideLayout339.xml"/><Relationship Id="rId8" Type="http://schemas.openxmlformats.org/officeDocument/2006/relationships/slideLayout" Target="../slideLayouts/slideLayout340.xml"/><Relationship Id="rId9" Type="http://schemas.openxmlformats.org/officeDocument/2006/relationships/slideLayout" Target="../slideLayouts/slideLayout341.xml"/><Relationship Id="rId10" Type="http://schemas.openxmlformats.org/officeDocument/2006/relationships/slideLayout" Target="../slideLayouts/slideLayout342.xml"/><Relationship Id="rId11" Type="http://schemas.openxmlformats.org/officeDocument/2006/relationships/slideLayout" Target="../slideLayouts/slideLayout343.xml"/><Relationship Id="rId12" Type="http://schemas.openxmlformats.org/officeDocument/2006/relationships/slideLayout" Target="../slideLayouts/slideLayout344.xml"/><Relationship Id="rId13" Type="http://schemas.openxmlformats.org/officeDocument/2006/relationships/slideLayout" Target="../slideLayouts/slideLayout345.xml"/><Relationship Id="rId14" Type="http://schemas.openxmlformats.org/officeDocument/2006/relationships/slideLayout" Target="../slideLayouts/slideLayout346.xml"/><Relationship Id="rId15" Type="http://schemas.openxmlformats.org/officeDocument/2006/relationships/slideLayout" Target="../slideLayouts/slideLayout347.xml"/><Relationship Id="rId16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49.xml"/><Relationship Id="rId6" Type="http://schemas.openxmlformats.org/officeDocument/2006/relationships/slideLayout" Target="../slideLayouts/slideLayout350.xml"/><Relationship Id="rId7" Type="http://schemas.openxmlformats.org/officeDocument/2006/relationships/slideLayout" Target="../slideLayouts/slideLayout351.xml"/><Relationship Id="rId8" Type="http://schemas.openxmlformats.org/officeDocument/2006/relationships/slideLayout" Target="../slideLayouts/slideLayout352.xml"/><Relationship Id="rId9" Type="http://schemas.openxmlformats.org/officeDocument/2006/relationships/slideLayout" Target="../slideLayouts/slideLayout353.xml"/><Relationship Id="rId10" Type="http://schemas.openxmlformats.org/officeDocument/2006/relationships/slideLayout" Target="../slideLayouts/slideLayout354.xml"/><Relationship Id="rId11" Type="http://schemas.openxmlformats.org/officeDocument/2006/relationships/slideLayout" Target="../slideLayouts/slideLayout355.xml"/><Relationship Id="rId12" Type="http://schemas.openxmlformats.org/officeDocument/2006/relationships/slideLayout" Target="../slideLayouts/slideLayout356.xml"/><Relationship Id="rId13" Type="http://schemas.openxmlformats.org/officeDocument/2006/relationships/slideLayout" Target="../slideLayouts/slideLayout357.xml"/><Relationship Id="rId14" Type="http://schemas.openxmlformats.org/officeDocument/2006/relationships/slideLayout" Target="../slideLayouts/slideLayout358.xml"/><Relationship Id="rId15" Type="http://schemas.openxmlformats.org/officeDocument/2006/relationships/slideLayout" Target="../slideLayouts/slideLayout359.xml"/><Relationship Id="rId16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61.xml"/><Relationship Id="rId6" Type="http://schemas.openxmlformats.org/officeDocument/2006/relationships/slideLayout" Target="../slideLayouts/slideLayout362.xml"/><Relationship Id="rId7" Type="http://schemas.openxmlformats.org/officeDocument/2006/relationships/slideLayout" Target="../slideLayouts/slideLayout363.xml"/><Relationship Id="rId8" Type="http://schemas.openxmlformats.org/officeDocument/2006/relationships/slideLayout" Target="../slideLayouts/slideLayout364.xml"/><Relationship Id="rId9" Type="http://schemas.openxmlformats.org/officeDocument/2006/relationships/slideLayout" Target="../slideLayouts/slideLayout365.xml"/><Relationship Id="rId10" Type="http://schemas.openxmlformats.org/officeDocument/2006/relationships/slideLayout" Target="../slideLayouts/slideLayout366.xml"/><Relationship Id="rId11" Type="http://schemas.openxmlformats.org/officeDocument/2006/relationships/slideLayout" Target="../slideLayouts/slideLayout367.xml"/><Relationship Id="rId12" Type="http://schemas.openxmlformats.org/officeDocument/2006/relationships/slideLayout" Target="../slideLayouts/slideLayout368.xml"/><Relationship Id="rId13" Type="http://schemas.openxmlformats.org/officeDocument/2006/relationships/slideLayout" Target="../slideLayouts/slideLayout369.xml"/><Relationship Id="rId14" Type="http://schemas.openxmlformats.org/officeDocument/2006/relationships/slideLayout" Target="../slideLayouts/slideLayout370.xml"/><Relationship Id="rId15" Type="http://schemas.openxmlformats.org/officeDocument/2006/relationships/slideLayout" Target="../slideLayouts/slideLayout371.xml"/><Relationship Id="rId16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3.xml"/><Relationship Id="rId6" Type="http://schemas.openxmlformats.org/officeDocument/2006/relationships/slideLayout" Target="../slideLayouts/slideLayout374.xml"/><Relationship Id="rId7" Type="http://schemas.openxmlformats.org/officeDocument/2006/relationships/slideLayout" Target="../slideLayouts/slideLayout375.xml"/><Relationship Id="rId8" Type="http://schemas.openxmlformats.org/officeDocument/2006/relationships/slideLayout" Target="../slideLayouts/slideLayout376.xml"/><Relationship Id="rId9" Type="http://schemas.openxmlformats.org/officeDocument/2006/relationships/slideLayout" Target="../slideLayouts/slideLayout377.xml"/><Relationship Id="rId10" Type="http://schemas.openxmlformats.org/officeDocument/2006/relationships/slideLayout" Target="../slideLayouts/slideLayout378.xml"/><Relationship Id="rId11" Type="http://schemas.openxmlformats.org/officeDocument/2006/relationships/slideLayout" Target="../slideLayouts/slideLayout379.xml"/><Relationship Id="rId12" Type="http://schemas.openxmlformats.org/officeDocument/2006/relationships/slideLayout" Target="../slideLayouts/slideLayout380.xml"/><Relationship Id="rId13" Type="http://schemas.openxmlformats.org/officeDocument/2006/relationships/slideLayout" Target="../slideLayouts/slideLayout381.xml"/><Relationship Id="rId14" Type="http://schemas.openxmlformats.org/officeDocument/2006/relationships/slideLayout" Target="../slideLayouts/slideLayout382.xml"/><Relationship Id="rId15" Type="http://schemas.openxmlformats.org/officeDocument/2006/relationships/slideLayout" Target="../slideLayouts/slideLayout383.xml"/><Relationship Id="rId16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85.xml"/><Relationship Id="rId6" Type="http://schemas.openxmlformats.org/officeDocument/2006/relationships/slideLayout" Target="../slideLayouts/slideLayout386.xml"/><Relationship Id="rId7" Type="http://schemas.openxmlformats.org/officeDocument/2006/relationships/slideLayout" Target="../slideLayouts/slideLayout387.xml"/><Relationship Id="rId8" Type="http://schemas.openxmlformats.org/officeDocument/2006/relationships/slideLayout" Target="../slideLayouts/slideLayout388.xml"/><Relationship Id="rId9" Type="http://schemas.openxmlformats.org/officeDocument/2006/relationships/slideLayout" Target="../slideLayouts/slideLayout389.xml"/><Relationship Id="rId10" Type="http://schemas.openxmlformats.org/officeDocument/2006/relationships/slideLayout" Target="../slideLayouts/slideLayout390.xml"/><Relationship Id="rId11" Type="http://schemas.openxmlformats.org/officeDocument/2006/relationships/slideLayout" Target="../slideLayouts/slideLayout391.xml"/><Relationship Id="rId12" Type="http://schemas.openxmlformats.org/officeDocument/2006/relationships/slideLayout" Target="../slideLayouts/slideLayout392.xml"/><Relationship Id="rId13" Type="http://schemas.openxmlformats.org/officeDocument/2006/relationships/slideLayout" Target="../slideLayouts/slideLayout393.xml"/><Relationship Id="rId14" Type="http://schemas.openxmlformats.org/officeDocument/2006/relationships/slideLayout" Target="../slideLayouts/slideLayout394.xml"/><Relationship Id="rId15" Type="http://schemas.openxmlformats.org/officeDocument/2006/relationships/slideLayout" Target="../slideLayouts/slideLayout395.xml"/><Relationship Id="rId16" Type="http://schemas.openxmlformats.org/officeDocument/2006/relationships/slideLayout" Target="../slideLayouts/slideLayout39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0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73.xml"/><Relationship Id="rId9" Type="http://schemas.openxmlformats.org/officeDocument/2006/relationships/slideLayout" Target="../slideLayouts/slideLayout74.xml"/><Relationship Id="rId10" Type="http://schemas.openxmlformats.org/officeDocument/2006/relationships/slideLayout" Target="../slideLayouts/slideLayout75.xml"/><Relationship Id="rId11" Type="http://schemas.openxmlformats.org/officeDocument/2006/relationships/slideLayout" Target="../slideLayouts/slideLayout76.xml"/><Relationship Id="rId12" Type="http://schemas.openxmlformats.org/officeDocument/2006/relationships/slideLayout" Target="../slideLayouts/slideLayout77.xml"/><Relationship Id="rId13" Type="http://schemas.openxmlformats.org/officeDocument/2006/relationships/slideLayout" Target="../slideLayouts/slideLayout78.xml"/><Relationship Id="rId14" Type="http://schemas.openxmlformats.org/officeDocument/2006/relationships/slideLayout" Target="../slideLayouts/slideLayout79.xml"/><Relationship Id="rId15" Type="http://schemas.openxmlformats.org/officeDocument/2006/relationships/slideLayout" Target="../slideLayouts/slideLayout80.xml"/><Relationship Id="rId16" Type="http://schemas.openxmlformats.org/officeDocument/2006/relationships/slideLayout" Target="../slideLayouts/slideLayout81.xml"/><Relationship Id="rId17" Type="http://schemas.openxmlformats.org/officeDocument/2006/relationships/slideLayout" Target="../slideLayouts/slideLayout82.xml"/><Relationship Id="rId18" Type="http://schemas.openxmlformats.org/officeDocument/2006/relationships/slideLayout" Target="../slideLayouts/slideLayout83.xml"/><Relationship Id="rId19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6AC50-2329-4B17-942A-A694BF7D893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DB12-D4B0-4D8B-84AB-72E5B397C31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2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5010-C20B-44DD-A4D6-A3FBF2A35F1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2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2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1E934-E2C1-44A2-83F0-FF2A054BCE9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56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 type="dt" idx="2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7AF79-58F8-451B-8551-3993C8E87C8E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 type="ftr" idx="2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 type="sldNum" idx="2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37FF-6875-4DD7-B7C9-90F2F96F1A6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2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EFF11-0F5E-449D-9651-2AFB8B3C420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2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2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503F3-DAFC-4CC3-9402-3A5D2CE0104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 type="dt" idx="2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BDC7-465C-4358-A74F-0500438CC9CB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 type="ftr" idx="3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 type="sldNum" idx="3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D9B33-FE42-426C-A58E-0C583F725D9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6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 type="dt" idx="3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2730E-F5B3-43AC-838B-67C23A57D85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 type="ftr" idx="3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 type="sldNum" idx="3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497B6-9C4E-40B9-B559-C5CC96AB75C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 type="dt" idx="3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14FA-9E5C-41F0-96C7-90F999D01E2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 type="ftr" idx="3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5"/>
          <p:cNvSpPr>
            <a:spLocks noGrp="1"/>
          </p:cNvSpPr>
          <p:nvPr>
            <p:ph type="sldNum" idx="3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11DC3-7A53-4A0F-9D89-3A81C7BA957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3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2359E-A6C5-4D33-A7CC-572DF0A2D7C6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3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D768-01ED-44A4-894C-293AA1599B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 type="dt" idx="4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51E0A-2DE7-48A7-927B-750EDB11477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 type="ftr" idx="4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 type="sldNum" idx="4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6430B-880E-4846-BA40-AB192DB58CF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8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4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8ADAC-DF29-4F74-88B8-C283275AF243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4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4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912BE-7A3D-4B8B-A570-C3AFC983B36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1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13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1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2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3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4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8"/>
    <p:sldLayoutId id="2147483884" r:id="rId9"/>
    <p:sldLayoutId id="2147483885" r:id="rId10"/>
    <p:sldLayoutId id="2147483886" r:id="rId11"/>
    <p:sldLayoutId id="2147483887" r:id="rId12"/>
    <p:sldLayoutId id="2147483888" r:id="rId13"/>
    <p:sldLayoutId id="2147483889" r:id="rId14"/>
    <p:sldLayoutId id="2147483890" r:id="rId15"/>
    <p:sldLayoutId id="2147483891" r:id="rId16"/>
    <p:sldLayoutId id="2147483892" r:id="rId17"/>
    <p:sldLayoutId id="2147483893" r:id="rId18"/>
    <p:sldLayoutId id="2147483894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90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1" name="Picture 148" descr="logo small"/>
            <p:cNvPicPr/>
            <p:nvPr/>
          </p:nvPicPr>
          <p:blipFill>
            <a:blip r:embed="rId8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3" name="Picture 23" descr="dd"/>
            <p:cNvPicPr/>
            <p:nvPr/>
          </p:nvPicPr>
          <p:blipFill>
            <a:blip r:embed="rId9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5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10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4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5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6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7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8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9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0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1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1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7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8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9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0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1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1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2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3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4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5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6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7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8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29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0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1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1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4"/>
    <p:sldLayoutId id="2147483663" r:id="rId15"/>
    <p:sldLayoutId id="2147483664" r:id="rId16"/>
    <p:sldLayoutId id="2147483665" r:id="rId17"/>
    <p:sldLayoutId id="2147483666" r:id="rId18"/>
    <p:sldLayoutId id="2147483667" r:id="rId19"/>
    <p:sldLayoutId id="2147483668" r:id="rId20"/>
    <p:sldLayoutId id="2147483669" r:id="rId21"/>
    <p:sldLayoutId id="2147483670" r:id="rId22"/>
    <p:sldLayoutId id="2147483671" r:id="rId23"/>
    <p:sldLayoutId id="2147483672" r:id="rId24"/>
    <p:sldLayoutId id="2147483673" r:id="rId25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99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99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0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1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2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03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8"/>
    <p:sldLayoutId id="2147483897" r:id="rId9"/>
    <p:sldLayoutId id="2147483898" r:id="rId10"/>
    <p:sldLayoutId id="2147483899" r:id="rId11"/>
    <p:sldLayoutId id="2147483900" r:id="rId12"/>
    <p:sldLayoutId id="2147483901" r:id="rId13"/>
    <p:sldLayoutId id="2147483902" r:id="rId14"/>
    <p:sldLayoutId id="2147483903" r:id="rId15"/>
    <p:sldLayoutId id="2147483904" r:id="rId16"/>
    <p:sldLayoutId id="2147483905" r:id="rId17"/>
    <p:sldLayoutId id="2147483906" r:id="rId18"/>
    <p:sldLayoutId id="2147483907" r:id="rId19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3F2AC-51DB-46DB-886A-C0CAEBA3631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11329-9BF1-4A20-88B1-E024389E2E8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9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120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1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122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4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5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6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7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8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29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0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1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2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3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4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5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6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7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8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39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0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1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2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3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4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5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6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7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8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49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0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1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2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3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5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0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16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8"/>
    <p:sldLayoutId id="2147483923" r:id="rId9"/>
    <p:sldLayoutId id="2147483924" r:id="rId10"/>
    <p:sldLayoutId id="2147483925" r:id="rId11"/>
    <p:sldLayoutId id="2147483926" r:id="rId12"/>
    <p:sldLayoutId id="2147483927" r:id="rId13"/>
    <p:sldLayoutId id="2147483928" r:id="rId14"/>
    <p:sldLayoutId id="2147483929" r:id="rId15"/>
    <p:sldLayoutId id="2147483930" r:id="rId16"/>
    <p:sldLayoutId id="2147483931" r:id="rId17"/>
    <p:sldLayoutId id="2147483932" r:id="rId18"/>
    <p:sldLayoutId id="2147483933" r:id="rId19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0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0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 type="dt" idx="5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EC601-379F-440B-B1DF-5E5012BB7198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 type="ftr" idx="5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9" name="PlaceHolder 5"/>
          <p:cNvSpPr>
            <a:spLocks noGrp="1"/>
          </p:cNvSpPr>
          <p:nvPr>
            <p:ph type="sldNum" idx="5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11645-0C1C-4B01-8BEE-DB21A435F4E8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4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4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 type="dt" idx="5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FF54C-C9E3-4AA7-BCF3-A84520AB4FE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 type="ftr" idx="5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 type="sldNum" idx="55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DD7D9-5D9A-4EA6-B5C3-1EBCEC6F6D5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9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29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 type="dt" idx="5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CB1DD-366A-4122-A694-0EBDE52434B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 type="ftr" idx="5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7" name="PlaceHolder 5"/>
          <p:cNvSpPr>
            <a:spLocks noGrp="1"/>
          </p:cNvSpPr>
          <p:nvPr>
            <p:ph type="sldNum" idx="58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03B3C-65AB-4B53-9759-7735CE129F0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 type="dt" idx="5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D84C4-F773-4343-BC22-999A5DC5455F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PlaceHolder 4"/>
          <p:cNvSpPr>
            <a:spLocks noGrp="1"/>
          </p:cNvSpPr>
          <p:nvPr>
            <p:ph type="ftr" idx="6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41" name="PlaceHolder 5"/>
          <p:cNvSpPr>
            <a:spLocks noGrp="1"/>
          </p:cNvSpPr>
          <p:nvPr>
            <p:ph type="sldNum" idx="61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E710F-9116-4E7F-813F-B0DDE92CBDB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37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38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 type="dt" idx="6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2103C-F066-4344-A133-FEFC732534A5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 type="ftr" idx="6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5" name="PlaceHolder 5"/>
          <p:cNvSpPr>
            <a:spLocks noGrp="1"/>
          </p:cNvSpPr>
          <p:nvPr>
            <p:ph type="sldNum" idx="64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9B86-CEB0-4175-AC6C-47C44A6A5DE3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5"/>
    <p:sldLayoutId id="2147483988" r:id="rId6"/>
    <p:sldLayoutId id="2147483989" r:id="rId7"/>
    <p:sldLayoutId id="2147483990" r:id="rId8"/>
    <p:sldLayoutId id="2147483991" r:id="rId9"/>
    <p:sldLayoutId id="2147483992" r:id="rId10"/>
    <p:sldLayoutId id="2147483993" r:id="rId11"/>
    <p:sldLayoutId id="2147483994" r:id="rId12"/>
    <p:sldLayoutId id="2147483995" r:id="rId13"/>
    <p:sldLayoutId id="2147483996" r:id="rId14"/>
    <p:sldLayoutId id="2147483997" r:id="rId15"/>
    <p:sldLayoutId id="2147483998" r:id="rId16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2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2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 type="dt" idx="6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2C1EE-89F0-422C-A147-C9994215DBC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 type="ftr" idx="6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 type="sldNum" idx="67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FF0DC-EF9B-4F0D-935C-119EEE709B3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5"/>
    <p:sldLayoutId id="2147484001" r:id="rId6"/>
    <p:sldLayoutId id="2147484002" r:id="rId7"/>
    <p:sldLayoutId id="2147484003" r:id="rId8"/>
    <p:sldLayoutId id="2147484004" r:id="rId9"/>
    <p:sldLayoutId id="2147484005" r:id="rId10"/>
    <p:sldLayoutId id="2147484006" r:id="rId11"/>
    <p:sldLayoutId id="2147484007" r:id="rId12"/>
    <p:sldLayoutId id="2147484008" r:id="rId13"/>
    <p:sldLayoutId id="2147484009" r:id="rId14"/>
    <p:sldLayoutId id="2147484010" r:id="rId15"/>
    <p:sldLayoutId id="2147484011" r:id="rId16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dt" idx="6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879D6-2443-415C-B772-45BC29B42C0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ftr" idx="6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sldNum" idx="7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7538D-86D8-4A6A-BCD9-3DCAEF16765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5"/>
    <p:sldLayoutId id="2147484014" r:id="rId6"/>
    <p:sldLayoutId id="2147484015" r:id="rId7"/>
    <p:sldLayoutId id="2147484016" r:id="rId8"/>
    <p:sldLayoutId id="2147484017" r:id="rId9"/>
    <p:sldLayoutId id="2147484018" r:id="rId10"/>
    <p:sldLayoutId id="2147484019" r:id="rId11"/>
    <p:sldLayoutId id="2147484020" r:id="rId12"/>
    <p:sldLayoutId id="2147484021" r:id="rId13"/>
    <p:sldLayoutId id="2147484022" r:id="rId14"/>
    <p:sldLayoutId id="2147484023" r:id="rId15"/>
    <p:sldLayoutId id="2147484024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68829-A27A-4902-841F-93CA496B2D3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5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41A30-ECB0-471A-B280-A0E51A46B2EE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1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5" name="PlaceHolder 3"/>
          <p:cNvSpPr>
            <a:spLocks noGrp="1"/>
          </p:cNvSpPr>
          <p:nvPr>
            <p:ph type="dt" idx="7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1A9D-8E5A-4F69-ABB7-2B79CF16F0FC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PlaceHolder 4"/>
          <p:cNvSpPr>
            <a:spLocks noGrp="1"/>
          </p:cNvSpPr>
          <p:nvPr>
            <p:ph type="ftr" idx="7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7" name="PlaceHolder 5"/>
          <p:cNvSpPr>
            <a:spLocks noGrp="1"/>
          </p:cNvSpPr>
          <p:nvPr>
            <p:ph type="sldNum" idx="73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12EB-B37D-4287-9FCC-1D641B5B516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5"/>
    <p:sldLayoutId id="2147484027" r:id="rId6"/>
    <p:sldLayoutId id="2147484028" r:id="rId7"/>
    <p:sldLayoutId id="2147484029" r:id="rId8"/>
    <p:sldLayoutId id="2147484030" r:id="rId9"/>
    <p:sldLayoutId id="2147484031" r:id="rId10"/>
    <p:sldLayoutId id="2147484032" r:id="rId11"/>
    <p:sldLayoutId id="2147484033" r:id="rId12"/>
    <p:sldLayoutId id="2147484034" r:id="rId13"/>
    <p:sldLayoutId id="2147484035" r:id="rId14"/>
    <p:sldLayoutId id="2147484036" r:id="rId15"/>
    <p:sldLayoutId id="2147484037" r:id="rId16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556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7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8231B-E8EE-4BF8-A635-7EBCB876A8BD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7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7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BF5E0-ACD0-4E15-8924-82BA50351D1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5"/>
    <p:sldLayoutId id="2147484040" r:id="rId6"/>
    <p:sldLayoutId id="2147484041" r:id="rId7"/>
    <p:sldLayoutId id="2147484042" r:id="rId8"/>
    <p:sldLayoutId id="2147484043" r:id="rId9"/>
    <p:sldLayoutId id="2147484044" r:id="rId10"/>
    <p:sldLayoutId id="2147484045" r:id="rId11"/>
    <p:sldLayoutId id="2147484046" r:id="rId12"/>
    <p:sldLayoutId id="2147484047" r:id="rId13"/>
    <p:sldLayoutId id="2147484048" r:id="rId14"/>
    <p:sldLayoutId id="2147484049" r:id="rId15"/>
    <p:sldLayoutId id="2147484050" r:id="rId16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59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00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3" name="PlaceHolder 3"/>
          <p:cNvSpPr>
            <a:spLocks noGrp="1"/>
          </p:cNvSpPr>
          <p:nvPr>
            <p:ph type="dt" idx="7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C5C94-8356-4624-B229-896157D34274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PlaceHolder 4"/>
          <p:cNvSpPr>
            <a:spLocks noGrp="1"/>
          </p:cNvSpPr>
          <p:nvPr>
            <p:ph type="ftr" idx="7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5" name="PlaceHolder 5"/>
          <p:cNvSpPr>
            <a:spLocks noGrp="1"/>
          </p:cNvSpPr>
          <p:nvPr>
            <p:ph type="sldNum" idx="7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23522-0C95-4FFE-A92A-09EA0E8122C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5"/>
    <p:sldLayoutId id="2147484053" r:id="rId6"/>
    <p:sldLayoutId id="2147484054" r:id="rId7"/>
    <p:sldLayoutId id="2147484055" r:id="rId8"/>
    <p:sldLayoutId id="2147484056" r:id="rId9"/>
    <p:sldLayoutId id="2147484057" r:id="rId10"/>
    <p:sldLayoutId id="2147484058" r:id="rId11"/>
    <p:sldLayoutId id="2147484059" r:id="rId12"/>
    <p:sldLayoutId id="2147484060" r:id="rId13"/>
    <p:sldLayoutId id="2147484061" r:id="rId14"/>
    <p:sldLayoutId id="2147484062" r:id="rId15"/>
    <p:sldLayoutId id="2147484063" r:id="rId16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7" name="PlaceHolder 3"/>
          <p:cNvSpPr>
            <a:spLocks noGrp="1"/>
          </p:cNvSpPr>
          <p:nvPr>
            <p:ph type="dt" idx="8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9DCF9-D8AA-428D-A9D0-93679464751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PlaceHolder 4"/>
          <p:cNvSpPr>
            <a:spLocks noGrp="1"/>
          </p:cNvSpPr>
          <p:nvPr>
            <p:ph type="ftr" idx="8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9" name="PlaceHolder 5"/>
          <p:cNvSpPr>
            <a:spLocks noGrp="1"/>
          </p:cNvSpPr>
          <p:nvPr>
            <p:ph type="sldNum" idx="82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5F28-4FED-4844-94A6-225A729322A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5"/>
    <p:sldLayoutId id="2147484066" r:id="rId6"/>
    <p:sldLayoutId id="2147484067" r:id="rId7"/>
    <p:sldLayoutId id="2147484068" r:id="rId8"/>
    <p:sldLayoutId id="2147484069" r:id="rId9"/>
    <p:sldLayoutId id="2147484070" r:id="rId10"/>
    <p:sldLayoutId id="2147484071" r:id="rId11"/>
    <p:sldLayoutId id="2147484072" r:id="rId12"/>
    <p:sldLayoutId id="2147484073" r:id="rId13"/>
    <p:sldLayoutId id="2147484074" r:id="rId14"/>
    <p:sldLayoutId id="2147484075" r:id="rId15"/>
    <p:sldLayoutId id="214748407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1D75A-F3F2-4926-824B-AF81BD821417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2C2C0-C12A-4826-82CA-FA5AB8BD76E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C106-66CF-4747-8D0A-7FDC46DC2B29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 type="sldNum" idx="10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E8E7-E339-4ACB-985B-90DBC96019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 type="dt" idx="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15454-9C66-4061-9EB2-EEBC868B28C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 type="ftr" idx="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6" name="PlaceHolder 5"/>
          <p:cNvSpPr>
            <a:spLocks noGrp="1"/>
          </p:cNvSpPr>
          <p:nvPr>
            <p:ph type="sldNum" idx="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B89-BAFA-4C4E-8D47-09108D21A9D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3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344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346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7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8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4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3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4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5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6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7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8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59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0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1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2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3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4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5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6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7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8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69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0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1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2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3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4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5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6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7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8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79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0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1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2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3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4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5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6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387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8"/>
    <p:sldLayoutId id="2147483728" r:id="rId9"/>
    <p:sldLayoutId id="2147483729" r:id="rId10"/>
    <p:sldLayoutId id="2147483730" r:id="rId11"/>
    <p:sldLayoutId id="2147483731" r:id="rId12"/>
    <p:sldLayoutId id="2147483732" r:id="rId13"/>
    <p:sldLayoutId id="2147483733" r:id="rId14"/>
    <p:sldLayoutId id="2147483734" r:id="rId15"/>
    <p:sldLayoutId id="2147483735" r:id="rId16"/>
    <p:sldLayoutId id="2147483736" r:id="rId17"/>
    <p:sldLayoutId id="2147483737" r:id="rId18"/>
    <p:sldLayoutId id="2147483738" r:id="rId19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1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1EB39-99E8-495A-B85F-E6B8D84440F0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1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16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4F2BD-E600-48A9-8D61-3C02D956166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1" descr=""/>
          <p:cNvPicPr/>
          <p:nvPr/>
        </p:nvPicPr>
        <p:blipFill>
          <a:blip r:embed="rId4"/>
          <a:srcRect l="10726" t="14399" r="0" b="17089"/>
          <a:stretch/>
        </p:blipFill>
        <p:spPr>
          <a:xfrm>
            <a:off x="8318520" y="6118200"/>
            <a:ext cx="574560" cy="623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1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1AE54-079C-4C56-B6D7-BE3ECA20D241}" type="datetime">
              <a:rPr b="0" lang="en-US" sz="1000" spc="-1" strike="noStrike">
                <a:solidFill>
                  <a:srgbClr val="83725b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1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19"/>
          </p:nvPr>
        </p:nvSpPr>
        <p:spPr>
          <a:xfrm>
            <a:off x="3795840" y="6453000"/>
            <a:ext cx="9921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E548-702E-4492-A8E9-0260419789E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25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0038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1694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695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6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697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1698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9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0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1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2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3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1704" name="Oval 102" descr=""/>
            <p:cNvPicPr/>
            <p:nvPr/>
          </p:nvPicPr>
          <p:blipFill>
            <a:blip r:embed="rId2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5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06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1707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8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9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0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1711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2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3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4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5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6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7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8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19" name="Oval 118"/>
          <p:cNvGrpSpPr/>
          <p:nvPr/>
        </p:nvGrpSpPr>
        <p:grpSpPr>
          <a:xfrm>
            <a:off x="974880" y="706320"/>
            <a:ext cx="1109520" cy="1109880"/>
            <a:chOff x="974880" y="706320"/>
            <a:chExt cx="1109520" cy="1109880"/>
          </a:xfrm>
        </p:grpSpPr>
        <p:pic>
          <p:nvPicPr>
            <p:cNvPr id="1720" name="Oval 118" descr=""/>
            <p:cNvPicPr/>
            <p:nvPr/>
          </p:nvPicPr>
          <p:blipFill>
            <a:blip r:embed="rId3"/>
            <a:stretch/>
          </p:blipFill>
          <p:spPr>
            <a:xfrm>
              <a:off x="974880" y="706320"/>
              <a:ext cx="110952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>
              <a:off x="1138320" y="870120"/>
              <a:ext cx="78408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2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172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26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172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3" name="Oval 128"/>
          <p:cNvGrpSpPr/>
          <p:nvPr/>
        </p:nvGrpSpPr>
        <p:grpSpPr>
          <a:xfrm>
            <a:off x="480960" y="3224160"/>
            <a:ext cx="1805040" cy="1817640"/>
            <a:chOff x="480960" y="3224160"/>
            <a:chExt cx="1805040" cy="1817640"/>
          </a:xfrm>
        </p:grpSpPr>
        <p:pic>
          <p:nvPicPr>
            <p:cNvPr id="1734" name="Oval 128" descr=""/>
            <p:cNvPicPr/>
            <p:nvPr/>
          </p:nvPicPr>
          <p:blipFill>
            <a:blip r:embed="rId4"/>
            <a:stretch/>
          </p:blipFill>
          <p:spPr>
            <a:xfrm>
              <a:off x="480960" y="3224160"/>
              <a:ext cx="1805040" cy="18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5" name=""/>
            <p:cNvSpPr/>
            <p:nvPr/>
          </p:nvSpPr>
          <p:spPr>
            <a:xfrm>
              <a:off x="746280" y="3492360"/>
              <a:ext cx="1274760" cy="12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36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1737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8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39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0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174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4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47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1748" name="Oval 138" descr=""/>
            <p:cNvPicPr/>
            <p:nvPr/>
          </p:nvPicPr>
          <p:blipFill>
            <a:blip r:embed="rId5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9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1750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1751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2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53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54" name="Rectangle 3"/>
          <p:cNvSpPr/>
          <p:nvPr/>
        </p:nvSpPr>
        <p:spPr>
          <a:xfrm>
            <a:off x="3784680" y="5027760"/>
            <a:ext cx="4572000" cy="13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5" name="Rectangle 59"/>
          <p:cNvSpPr/>
          <p:nvPr/>
        </p:nvSpPr>
        <p:spPr>
          <a:xfrm>
            <a:off x="2987640" y="981000"/>
            <a:ext cx="6085080" cy="33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Clarification_ QM 58 Category 4 Quality Require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</a:rPr>
              <a:t>KZN  Province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ff0000"/>
                </a:solidFill>
                <a:latin typeface="Arial"/>
              </a:rPr>
              <a:t>Pole top Box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3725b"/>
                </a:solidFill>
                <a:latin typeface="Arial"/>
                <a:ea typeface="Times New Roman"/>
              </a:rPr>
              <a:t>21 July 202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6" name="Date Placeholder 1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51743-A9B3-4C45-827D-BB9A7FF08DF4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7" name="Slide Number Placeholder 4"/>
          <p:cNvSpPr/>
          <p:nvPr/>
        </p:nvSpPr>
        <p:spPr>
          <a:xfrm>
            <a:off x="7196040" y="6553080"/>
            <a:ext cx="1650960" cy="26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6693-8F29-4081-8CAA-585E6B68C28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7375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ission Noted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6" name=""/>
          <p:cNvSpPr txBox="1"/>
          <p:nvPr/>
        </p:nvSpPr>
        <p:spPr>
          <a:xfrm>
            <a:off x="178920" y="1114560"/>
            <a:ext cx="8796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Section A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174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Documents not compliant to ISO 9001:2015 requirements (A1,A2,A4,A6,A7)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Documents compliant to ISO 9001:2015 but reference made to ISO 9001:2008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Quality Policy not approved 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Section B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B.1 Documented information for defined roles, responsibilities and authoriti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1749"/>
              </a:spcBef>
              <a:buClr>
                <a:srgbClr val="8c7f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Quality role not included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B.2 Documented information for Control of Externally Provided Processes, Products and Services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1749"/>
              </a:spcBef>
              <a:buClr>
                <a:srgbClr val="8c7f6d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</a:rPr>
              <a:t>Documentation control process only listed – no indication of other process e.g supplier/contractor management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7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02ED9-6A76-4E68-A5AE-DAF7EE5F02F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8" name="Slide Number Placeholder 4"/>
          <p:cNvSpPr/>
          <p:nvPr/>
        </p:nvSpPr>
        <p:spPr>
          <a:xfrm>
            <a:off x="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69F30-C019-4AA1-8030-ECC6226008F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PlaceHolder 1"/>
          <p:cNvSpPr>
            <a:spLocks noGrp="1"/>
          </p:cNvSpPr>
          <p:nvPr>
            <p:ph type="title"/>
          </p:nvPr>
        </p:nvSpPr>
        <p:spPr>
          <a:xfrm>
            <a:off x="0" y="174600"/>
            <a:ext cx="737568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mission Noted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0" name=""/>
          <p:cNvSpPr txBox="1"/>
          <p:nvPr/>
        </p:nvSpPr>
        <p:spPr>
          <a:xfrm>
            <a:off x="178920" y="1114560"/>
            <a:ext cx="879660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Section C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Contract Quality Plan – template submitted – not populated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Not all information submitted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NO submission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800" spc="-1" strike="noStrike">
                <a:solidFill>
                  <a:srgbClr val="003896"/>
                </a:solidFill>
                <a:latin typeface="Arial"/>
              </a:rPr>
              <a:t>Section E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Form A – enquiry number and description omitted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600" spc="-1" strike="noStrike">
                <a:solidFill>
                  <a:srgbClr val="003896"/>
                </a:solidFill>
                <a:latin typeface="Arial"/>
              </a:rPr>
              <a:t>Not signed by Quality Rep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1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AF3E2-2AFF-45A0-8D36-02C17EC2CADC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2" name="Slide Number Placeholder 4"/>
          <p:cNvSpPr/>
          <p:nvPr/>
        </p:nvSpPr>
        <p:spPr>
          <a:xfrm>
            <a:off x="0" y="64533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60F37-625D-4B40-9289-BABA46DDF94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8A954-AC78-4656-93B9-4873583B044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0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48526-CD9C-410F-8741-33A253A40EC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806" name="Picture 5" descr=""/>
          <p:cNvPicPr/>
          <p:nvPr/>
        </p:nvPicPr>
        <p:blipFill>
          <a:blip r:embed="rId1"/>
          <a:stretch/>
        </p:blipFill>
        <p:spPr>
          <a:xfrm>
            <a:off x="2771640" y="2205000"/>
            <a:ext cx="3168720" cy="24494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 of this presentation</a:t>
            </a:r>
            <a:endParaRPr b="0" lang="en-US" sz="3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59" name=""/>
          <p:cNvSpPr txBox="1"/>
          <p:nvPr/>
        </p:nvSpPr>
        <p:spPr>
          <a:xfrm>
            <a:off x="108000" y="1125000"/>
            <a:ext cx="903600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Quality Requirement Category 1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A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Section B – document submiss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ion of Section C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: Contract Quality  Pla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Complete</a:t>
            </a: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 Section E:Form A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3D5B3-07CF-4365-A8C2-D7A33679C76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5D906-38C0-4492-BFED-9C2BE57540E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B7BA9-2C3E-4772-BD1D-D514C9B1D47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3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A76F8-342B-47FD-8A0F-3198AE23EEB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5" name="Rectangle 2"/>
          <p:cNvSpPr/>
          <p:nvPr/>
        </p:nvSpPr>
        <p:spPr>
          <a:xfrm>
            <a:off x="152280" y="1052640"/>
            <a:ext cx="8969400" cy="56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1 QMS Manual or a document that defines and describes the QMS and its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scope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or Quality Method statement based on scope.                                    (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 manual to be aligned to ISO 9001:2015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 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lauses of ISO 9001:2015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4 - Context of organiz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5 – Leadership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6 – Planning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7 – Suppor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8 – Operation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9 – Performance Evaluation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0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</a:rPr>
              <a:t>Clause 10 – Improvement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2D9A5-0A75-4F0C-B895-50175AF24C90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7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19685-6D27-4018-AC0D-AA35AB62F95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69" name="Rectangle 2"/>
          <p:cNvSpPr/>
          <p:nvPr/>
        </p:nvSpPr>
        <p:spPr>
          <a:xfrm>
            <a:off x="152280" y="1052640"/>
            <a:ext cx="8969400" cy="50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2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Quality Policy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Approved by top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manage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mmitment to: meet customer requirements / expectations; continual improvement; satisfying all applicable requirements including statutory requirements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A.4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Control of </a:t>
            </a:r>
            <a:r>
              <a:rPr b="1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documents are  approved, distributed, retrieved, reviewed. Control  of obsolete and external origin.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storage(how records are kept), protection, retrieval, retention time  and disposal of record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45BF0-6204-47EA-8194-21E68FDB1E3D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1" name="Slide Number Placeholder 5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B66E-73F5-416C-875D-9DAF1784D67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701496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- Quality Requirement  - Category 3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3" name="Rectangle 2"/>
          <p:cNvSpPr/>
          <p:nvPr/>
        </p:nvSpPr>
        <p:spPr>
          <a:xfrm>
            <a:off x="152280" y="1052640"/>
            <a:ext cx="8969400" cy="41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000" spc="-1" strike="noStrike">
                <a:solidFill>
                  <a:srgbClr val="003896"/>
                </a:solidFill>
                <a:latin typeface="Arial"/>
              </a:rPr>
              <a:t>SECTION A: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6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information for Non-Conformance and  Corrective Ac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-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imination of detected non-conformanc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process of Corrective Action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revention of recurrence (ID root cause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000" spc="-1" strike="noStrike">
                <a:solidFill>
                  <a:srgbClr val="003896"/>
                </a:solidFill>
                <a:latin typeface="Arial"/>
              </a:rPr>
              <a:t>A.7 </a:t>
            </a:r>
            <a:r>
              <a:rPr b="1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Documented </a:t>
            </a:r>
            <a:r>
              <a:rPr b="0" lang="en-ZA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Internal audit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Planned interval, conducted by trained and independent personnel, who will conduct, how will they conduct and intervals. Reporting and correction of  audit  finding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5" name=""/>
          <p:cNvSpPr txBox="1"/>
          <p:nvPr/>
        </p:nvSpPr>
        <p:spPr>
          <a:xfrm>
            <a:off x="179280" y="10904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.1 Documented information for defined roles, responsibilities and     authoritie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bmits either of these document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rganogram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Job Profil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Responsibility Matrix etc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lease ensure that the Quality Roles / Function is detailed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6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760F2-0447-4C4A-95A3-304495A11DD8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7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8D89-2296-4CBB-B8AA-E2CF10E36CC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B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79" name=""/>
          <p:cNvSpPr txBox="1"/>
          <p:nvPr/>
        </p:nvSpPr>
        <p:spPr>
          <a:xfrm>
            <a:off x="179280" y="915840"/>
            <a:ext cx="8856720" cy="546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446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B.2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 Document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information for Control of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Externally Provided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Processes, Products and Servic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be how you  ensure that work completed/supplied by external party  (Sub-Contractor, Suppliers) compiles with the requirement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Sel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Evalua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On going monitoring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Inspection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roduct  acceptance /approval / final Inspection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44460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Controls that you have in place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buClr>
                <a:srgbClr val="8c7f6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0" name="Date Placeholder 3"/>
          <p:cNvSpPr/>
          <p:nvPr/>
        </p:nvSpPr>
        <p:spPr>
          <a:xfrm>
            <a:off x="324000" y="6453360"/>
            <a:ext cx="173808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B2F95-7904-4D23-8E23-E4BB89759FE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1" name="Slide Number Placeholder 4"/>
          <p:cNvSpPr/>
          <p:nvPr/>
        </p:nvSpPr>
        <p:spPr>
          <a:xfrm>
            <a:off x="7667640" y="6559560"/>
            <a:ext cx="9921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8A36-D208-49B2-BB79-C898A8CB9DFF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3" name=""/>
          <p:cNvSpPr txBox="1"/>
          <p:nvPr/>
        </p:nvSpPr>
        <p:spPr>
          <a:xfrm>
            <a:off x="436680" y="153828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ontract Quality Plan specific to the scope of work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mplate attached on invitation – CQP Template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58480" indent="-2584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D7B45-A65E-4F3E-940D-1CF8CF760F8D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7F053-7EF4-42B7-B12A-54EC3DCA8E84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86" name="Title 1"/>
          <p:cNvSpPr/>
          <p:nvPr/>
        </p:nvSpPr>
        <p:spPr>
          <a:xfrm>
            <a:off x="588960" y="318960"/>
            <a:ext cx="6519960" cy="6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C – Contract Quality Pla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87" name="Picture 2" descr=""/>
          <p:cNvPicPr/>
          <p:nvPr/>
        </p:nvPicPr>
        <p:blipFill>
          <a:blip r:embed="rId1"/>
          <a:stretch/>
        </p:blipFill>
        <p:spPr>
          <a:xfrm>
            <a:off x="976320" y="1844640"/>
            <a:ext cx="5743440" cy="4167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88" name="Content Placeholder 5"/>
          <p:cNvGraphicFramePr/>
          <p:nvPr/>
        </p:nvGraphicFramePr>
        <p:xfrm>
          <a:off x="7047000" y="5948280"/>
          <a:ext cx="914400" cy="771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9" name="Content Placeholder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47000" y="5948280"/>
                    <a:ext cx="914400" cy="77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tion E - Form A completion and signing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1" name="Date Placeholder 3"/>
          <p:cNvSpPr/>
          <p:nvPr/>
        </p:nvSpPr>
        <p:spPr>
          <a:xfrm>
            <a:off x="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2DCA4-E84A-4DA3-AA27-A4B06A3AA656}" type="datetime">
              <a:rPr b="0" lang="en-US" sz="1000" spc="-1" strike="noStrike">
                <a:solidFill>
                  <a:srgbClr val="83725b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92" name="Slide Number Placeholder 2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6537E-6AA3-4FA9-B2EC-0071EF6D634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1793" name="Picture 7" descr=""/>
          <p:cNvPicPr/>
          <p:nvPr/>
        </p:nvPicPr>
        <p:blipFill>
          <a:blip r:embed="rId1"/>
          <a:stretch/>
        </p:blipFill>
        <p:spPr>
          <a:xfrm>
            <a:off x="1403280" y="1171440"/>
            <a:ext cx="3730680" cy="5281920"/>
          </a:xfrm>
          <a:prstGeom prst="rect">
            <a:avLst/>
          </a:prstGeom>
          <a:ln w="0">
            <a:noFill/>
          </a:ln>
        </p:spPr>
      </p:pic>
      <p:sp>
        <p:nvSpPr>
          <p:cNvPr id="1794" name="TextBox 1"/>
          <p:cNvSpPr/>
          <p:nvPr/>
        </p:nvSpPr>
        <p:spPr>
          <a:xfrm>
            <a:off x="2268360" y="1955880"/>
            <a:ext cx="251964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here 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Complete and sign here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engelight</dc:creator>
  <dc:description/>
  <dc:language>en-US</dc:language>
  <cp:lastModifiedBy>Thabile Sibiya</cp:lastModifiedBy>
  <cp:lastPrinted>2020-03-06T11:27:26Z</cp:lastPrinted>
  <dcterms:modified xsi:type="dcterms:W3CDTF">2022-07-21T11:21:06Z</dcterms:modified>
  <cp:revision>896</cp:revision>
  <dc:subject/>
  <dc:title>Slide 1</dc:title>
</cp:coreProperties>
</file>